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576C-135B-40BA-A17D-1563A8CF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E1DB-CA27-47BD-8056-9A821906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E70D-2B07-4E5B-886F-8189764BF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06C7-AC67-4EF6-9114-80B7F34C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A8CD-044E-49E2-85D1-6ECC266E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F9EA-BCC0-4F77-8C62-B9B783D6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C1AA-6FA2-413B-83A5-A0A250DF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E91A-A636-45BC-8EF4-A44FB164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3816-2136-4894-91C8-137A0FAA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A32A-3C45-4B37-8622-4CF4C546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EA62-5033-4239-A926-7D010CC4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9884-6244-42FD-AE43-A621E96C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1F0C-BE46-4242-8019-565F60CC00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760"/>
                <a:gridCol w="768240"/>
                <a:gridCol w="457200"/>
                <a:gridCol w="766800"/>
                <a:gridCol w="64764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4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四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项目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项目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8T01:36:42Z</dcterms:created>
  <dc:creator>Administrator</dc:creator>
  <dc:description/>
  <dc:language>en-US</dc:language>
  <cp:lastModifiedBy>User</cp:lastModifiedBy>
  <dcterms:modified xsi:type="dcterms:W3CDTF">2013-06-28T01:53:00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